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E2F-1EAD-4890-BA92-267BF50B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405-FE94-410C-8D3D-975110B0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B24-BE22-469F-B980-E3B1F844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4E0-CA6C-481B-A157-0D313AEA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AE4-FE63-4F2F-88A3-97A8940F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527-50FF-4C63-930C-5E1FECF4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4BC-C387-4F4A-BB87-9B3DEBC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5520-AE57-4BE9-8312-695DD430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C27D-E3AB-4BFA-9650-1368AF94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427-6DAB-43F5-8185-94EEFA2E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E39-22CB-4A11-A781-DDE6576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75E-AC13-4D6C-B567-EF6F0E4F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544A-71FE-4C8F-B679-AE0A65C88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lbournestorm.com.au/default.as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360" y="476280"/>
            <a:ext cx="3962520" cy="551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-1908360" y="3068640"/>
            <a:ext cx="561672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GREG INGLIS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6237360"/>
            <a:ext cx="381636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BY MATT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melb_storm_logo" descr="Melbourne Storm Rugby League Club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4941720"/>
            <a:ext cx="1428840" cy="1524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ive-eighth option... Greg Inglis"/>
          <p:cNvPicPr/>
          <p:nvPr/>
        </p:nvPicPr>
        <p:blipFill>
          <a:blip r:embed="rId1"/>
          <a:stretch/>
        </p:blipFill>
        <p:spPr>
          <a:xfrm>
            <a:off x="900000" y="1700280"/>
            <a:ext cx="2581560" cy="388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5950080"/>
            <a:ext cx="331308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LAYING STATE OF OR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11280" y="765000"/>
            <a:ext cx="40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TATE OF ORIGAN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284720" y="2708280"/>
            <a:ext cx="39607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10x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559480" cy="3905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11280" y="6165720"/>
            <a:ext cx="417672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LAYING FOR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47640" y="476280"/>
            <a:ext cx="55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USTRAL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59640" y="4292640"/>
            <a:ext cx="19224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124000" y="404640"/>
            <a:ext cx="48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S CARE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229360"/>
            <a:ext cx="6264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layed in a grand final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 played for Australia when he was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 won the Clive Churchill medal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_229781_1_5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6960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1:55:55Z</dcterms:created>
  <dc:creator>Reservoir District Secondary College</dc:creator>
  <dc:description/>
  <dc:language>en-US</dc:language>
  <cp:lastModifiedBy>Reservoir District Secondary College</cp:lastModifiedBy>
  <dcterms:modified xsi:type="dcterms:W3CDTF">2008-07-17T02:42:52Z</dcterms:modified>
  <cp:revision>6</cp:revision>
  <dc:subject/>
  <dc:title>Slide 1</dc:title>
</cp:coreProperties>
</file>